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3B10-EF11-40AC-9329-D51E61C87F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D674-5E5E-4118-8758-42AA96D88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1D0-FAB3-4853-A89E-8E3133A7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DBE-2370-4C6D-BDB5-A6BDE622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56E-F8D0-40AB-9549-3118F63E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CF8-8EE5-45EC-9337-C29AD7B5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E6CB-BCB1-43E8-A4C9-C92C79F9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FDBE-1F39-47AB-9D08-FA684066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CA78-2C96-47C6-A277-181FEA41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C9E8-9AB8-4160-9D68-165F7B98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4AE7-48DA-4F13-96F0-2D752C8F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4E03-E6AF-4F30-9512-E42B6866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4F55-A34B-4508-B62D-98336081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B73-FE16-4A11-8F90-00B2785A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99DE-EB20-4A7D-BCE7-C5F63543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EC0A-447F-4C90-A6DB-787E9A23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F393-F04A-4B73-944C-72FF5F29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2518-1CCE-4F94-BD22-E4D7C196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4C9F-E661-4139-8624-CB23A2CA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7996-1538-486D-9148-C3C1258A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9AFB-0D03-482C-B37B-5CD1E198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71DE-1F7B-4177-A65D-B85E4088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5F5E9-822A-4DC0-9FE0-2E6DCCCE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A9395-1DE6-41D7-9682-E73D7812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00B-21F4-4946-9EFF-64B6593A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8F26D-4005-4CC1-8668-429FA471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9652-72B7-4D61-BAB6-08AAD896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6B56-9485-4024-8296-40B974BB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E173-ED61-43D7-ABB5-4186C587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97B9-1753-4B11-97ED-25F03973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8AAE-2173-433A-931F-3B3228C8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F1FB8-24BC-4828-8ABE-DE24D698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58E-563F-459C-85A4-DCB3D38C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50D-A46B-4918-9B72-CC69552C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990-B164-4BFB-A725-EBAAE061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A5F-51D5-4A07-99D9-9A8B434E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719-8D6F-47B0-B871-B4DFE997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F84-8113-4DC2-8610-CE9A076D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4AD5-6F27-4FCF-AB03-9D3598BB1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1EDC-DB78-41B5-863F-68BB138FA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6EAF-6884-4994-AF18-AAADD9F5C41C}" type="slidenum">
              <a:rPr b="0" lang="ru-RU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2"/>
          <p:cNvSpPr/>
          <p:nvPr/>
        </p:nvSpPr>
        <p:spPr>
          <a:xfrm>
            <a:off x="1500120" y="214200"/>
            <a:ext cx="62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755640" y="836640"/>
            <a:ext cx="7416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Портрет княгини Ольги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ttps://avatars.mds.yandex.net/get-pdb/51720/3c5c912b-a252-448d-b11a-5c9fc3be92f1/s1200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s://ds02.infourok.ru/uploads/ex/10da/000715b9-65c1f6e1/img2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http://deduhova.ru/statesman/wp-content/uploads/2013/09/0_140aa3_7407eb08_orig.jpg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https://illustrators.ru/uploads/illustration/image/880774/main_OLGA_I_SVYATOSLAV_copy.jpg"/>
          <p:cNvPicPr/>
          <p:nvPr/>
        </p:nvPicPr>
        <p:blipFill>
          <a:blip r:embed="rId1"/>
          <a:stretch/>
        </p:blipFill>
        <p:spPr>
          <a:xfrm>
            <a:off x="1979640" y="549360"/>
            <a:ext cx="52689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http://www.zdravrussia.ru/images/foto/fool/8322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http://cdbvizit.ru/wp-content/uploads/2013/02/%D0%98.%D0%90.-%D0%90%D0%BA%D0%B8%D0%BC%D0%BE%D0%B2.-%D0%9A%D1%80%D0%B5%D1%89%D0%B5%D0%BD%D0%B8%D0%B5-%D0%BA%D0%BD%D1%8F%D0%B3%D0%B8%D0%BD%D0%B8-%D0%9E%D0%BB%D1%8C%D0%B3%D0%B8-%D0%B2-%D0%9A%D0%BE%D0%BD%D1%81%D1%82%D0%B0%D0%BD%D1%82%D0%B8%D0%BD%D0%BE%D0%BF%D0%BE%D0%BB%D0%B5.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https://img-fotki.yandex.ru/get/6735/14403785.ee/0_a52ff_ac6a7063_XL.jpg"/>
          <p:cNvPicPr/>
          <p:nvPr/>
        </p:nvPicPr>
        <p:blipFill>
          <a:blip r:embed="rId1"/>
          <a:stretch/>
        </p:blipFill>
        <p:spPr>
          <a:xfrm>
            <a:off x="250920" y="3500280"/>
            <a:ext cx="4321080" cy="309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s://img-fotki.yandex.ru/get/6806/14403785.ee/0_a5301_b403bcb0_XL.jpg"/>
          <p:cNvPicPr/>
          <p:nvPr/>
        </p:nvPicPr>
        <p:blipFill>
          <a:blip r:embed="rId2"/>
          <a:stretch/>
        </p:blipFill>
        <p:spPr>
          <a:xfrm>
            <a:off x="4572000" y="260280"/>
            <a:ext cx="4392720" cy="633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https://img-fotki.yandex.ru/get/6816/14403785.ee/0_a5302_67cfcd5d_XL.jpg"/>
          <p:cNvPicPr/>
          <p:nvPr/>
        </p:nvPicPr>
        <p:blipFill>
          <a:blip r:embed="rId3"/>
          <a:stretch/>
        </p:blipFill>
        <p:spPr>
          <a:xfrm>
            <a:off x="250920" y="260280"/>
            <a:ext cx="4321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ÐÐ½ÑÐ·Ñ Ð¡Ð²ÑÑÐ¾ÑÐ»Ð°Ð² ÐÐ³Ð¾ÑÐµÐ²Ð¸Ñ"/>
          <p:cNvPicPr/>
          <p:nvPr/>
        </p:nvPicPr>
        <p:blipFill>
          <a:blip r:embed="rId1"/>
          <a:stretch/>
        </p:blipFill>
        <p:spPr>
          <a:xfrm>
            <a:off x="250920" y="1197000"/>
            <a:ext cx="4630680" cy="540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https://ic.pics.livejournal.com/mister65/71478176/121847/121847_900.png"/>
          <p:cNvPicPr/>
          <p:nvPr/>
        </p:nvPicPr>
        <p:blipFill>
          <a:blip r:embed="rId2"/>
          <a:stretch/>
        </p:blipFill>
        <p:spPr>
          <a:xfrm>
            <a:off x="4859280" y="1197000"/>
            <a:ext cx="4033800" cy="54007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7"/>
          <p:cNvSpPr/>
          <p:nvPr/>
        </p:nvSpPr>
        <p:spPr>
          <a:xfrm>
            <a:off x="324000" y="549360"/>
            <a:ext cx="8640720" cy="6476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b95"/>
                </a:solidFill>
                <a:latin typeface="Calibri"/>
              </a:rPr>
              <a:t>Ярополк Святославич </a:t>
            </a:r>
            <a:r>
              <a:rPr b="0" lang="ru-RU" sz="2000" spc="-1" strike="noStrike">
                <a:solidFill>
                  <a:srgbClr val="422b95"/>
                </a:solidFill>
                <a:latin typeface="Calibri"/>
              </a:rPr>
              <a:t>и </a:t>
            </a:r>
            <a:r>
              <a:rPr b="1" lang="ru-RU" sz="2000" spc="-1" strike="noStrike">
                <a:solidFill>
                  <a:srgbClr val="422b95"/>
                </a:solidFill>
                <a:latin typeface="Calibri"/>
              </a:rPr>
              <a:t>Владимир Святославич</a:t>
            </a:r>
            <a:r>
              <a:rPr b="0" lang="ru-RU" sz="2000" spc="-1" strike="noStrike">
                <a:solidFill>
                  <a:srgbClr val="422b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0" y="136440"/>
            <a:ext cx="1843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http://prezentacii.info/wp-content/uploads/2018/09/cQpDmo5uoeZG5mhf/50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01:32:27Z</dcterms:created>
  <dc:creator>Comp</dc:creator>
  <dc:description/>
  <dc:language>en-US</dc:language>
  <cp:lastModifiedBy>ASCM</cp:lastModifiedBy>
  <dcterms:modified xsi:type="dcterms:W3CDTF">2019-05-21T22:39:23Z</dcterms:modified>
  <cp:revision>154</cp:revision>
  <dc:subject/>
  <dc:title>Слайд 1</dc:title>
</cp:coreProperties>
</file>